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MS Mincho"/>
              </a:rPr>
              <a:t>Click to move the slide</a:t>
            </a: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9804-1022-46FB-B859-982EB4D47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E762-5EE1-4C72-8ACF-D1FB8FA97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67F6-B349-4884-A8D3-B88315A2D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A360-3047-4309-9575-E90C5CB3D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8DBF-CA36-4C02-8D09-839F7EB92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C90B-F138-49DF-B8A5-FF7C1EDBE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6F33-D2B3-4098-91B2-0C04F2781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E801-A77B-4536-AE87-4677B8599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360" y="38880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2FF9-DC45-4C08-8B03-3DFF9B93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1680" y="152388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360" y="38880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1680" y="38880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796B-4C68-4612-92EA-CB6D12416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86520" y="152388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82680" y="152388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360" y="38880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86520" y="38880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82680" y="38880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EC3B-360C-417A-88A7-F394A6E07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59B1-3E73-42A2-9E78-4C65414CC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15238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A538-16D0-4A9E-946D-959CD16D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3487-2644-4A53-B198-704D32A8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1680" y="152388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08E8-530C-4DC3-B6C4-7CBC28BE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5B06-3AA8-4DD3-9DF2-9CB0360D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720" y="2743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ED93-F758-4A97-AFC7-26E73C4F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1680" y="152388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360" y="38880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A221-2C92-40AD-ABCF-ED56CE93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360" y="15238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98BA-82DA-4C96-BEF0-EB39249B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1680" y="152388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1680" y="38880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67F2-9BB8-4542-B6E2-E4E2FA29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1680" y="152388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90360" y="38880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C57C-D260-4B7D-A66D-0EADE9E1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90360" y="38880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E87F-0A39-4553-AD3F-62FC19AD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1680" y="152388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360" y="38880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1680" y="38880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4110-2E18-49A4-895E-03CF76A93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86520" y="152388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782680" y="152388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90360" y="38880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86520" y="38880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782680" y="38880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DC91-6505-443E-9549-2042D0264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85B3-FDA6-413D-AD9E-62E599BF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1680" y="152388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0B3C-E809-477E-9900-67C26808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AC93-A665-4428-97FD-2955317D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2743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BFCB-CBB9-4FDC-B3D8-A730F9E1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1680" y="152388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360" y="38880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A662-78EE-4FF9-B024-6F52B131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1680" y="152388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1680" y="38880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ED83-2DF0-4475-94F3-D37527D2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1680" y="152388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360" y="38880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A9EA-6AA2-412B-9919-933A8F0D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MS Mincho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360" y="15238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6600"/>
              </a:buClr>
              <a:buFont typeface="MS Minch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  <a:p>
            <a:pPr lvl="1" marL="705600" indent="-271440">
              <a:spcBef>
                <a:spcPts val="799"/>
              </a:spcBef>
              <a:buClr>
                <a:srgbClr val="cc6600"/>
              </a:buClr>
              <a:buFont typeface="MS Minch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  <a:p>
            <a:pPr lvl="2" marL="1085760" indent="-217080">
              <a:spcBef>
                <a:spcPts val="799"/>
              </a:spcBef>
              <a:buClr>
                <a:srgbClr val="cc6600"/>
              </a:buClr>
              <a:buFont typeface="MS Minch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  <a:p>
            <a:pPr lvl="3" marL="1519920" indent="-217080">
              <a:spcBef>
                <a:spcPts val="799"/>
              </a:spcBef>
              <a:buClr>
                <a:srgbClr val="cc6600"/>
              </a:buClr>
              <a:buFont typeface="MS Minch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  <a:p>
            <a:pPr lvl="4" marL="1954440" indent="-217080">
              <a:spcBef>
                <a:spcPts val="799"/>
              </a:spcBef>
              <a:buClr>
                <a:srgbClr val="cc6600"/>
              </a:buClr>
              <a:buFont typeface="MS Minch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MS Minch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MS Minch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MS Minch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B3BA-6836-4954-87A4-79A5D8B0B73F}" type="slidenum">
              <a:rPr b="0" lang="en-US" sz="1400" spc="-1" strike="noStrike">
                <a:solidFill>
                  <a:srgbClr val="ffffff"/>
                </a:solidFill>
                <a:latin typeface="MS Minch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MS Mincho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90360" y="15238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6600"/>
              </a:buClr>
              <a:buFont typeface="MS Minch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  <a:p>
            <a:pPr lvl="1" marL="705600" indent="-271440">
              <a:spcBef>
                <a:spcPts val="799"/>
              </a:spcBef>
              <a:buClr>
                <a:srgbClr val="cc6600"/>
              </a:buClr>
              <a:buFont typeface="MS Minch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  <a:p>
            <a:pPr lvl="2" marL="1085760" indent="-217080">
              <a:spcBef>
                <a:spcPts val="799"/>
              </a:spcBef>
              <a:buClr>
                <a:srgbClr val="cc6600"/>
              </a:buClr>
              <a:buFont typeface="MS Minch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  <a:p>
            <a:pPr lvl="3" marL="1519920" indent="-217080">
              <a:spcBef>
                <a:spcPts val="799"/>
              </a:spcBef>
              <a:buClr>
                <a:srgbClr val="cc6600"/>
              </a:buClr>
              <a:buFont typeface="MS Minch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  <a:p>
            <a:pPr lvl="4" marL="1954440" indent="-217080">
              <a:spcBef>
                <a:spcPts val="799"/>
              </a:spcBef>
              <a:buClr>
                <a:srgbClr val="cc6600"/>
              </a:buClr>
              <a:buFont typeface="MS Minch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MS Minch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MS Minch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84DB-CD6D-40AF-B36B-5AD3682AE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MS Mincho"/>
              </a:rPr>
              <a:t>Solving Addition and Subtraction Equations</a:t>
            </a:r>
            <a:endParaRPr b="1" lang="en-US" sz="5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 Mincho"/>
              </a:rPr>
              <a:t>Solving for a variable!</a:t>
            </a:r>
            <a:endParaRPr b="0" lang="en-US" sz="2800" spc="-1" strike="noStrike">
              <a:solidFill>
                <a:srgbClr val="000000"/>
              </a:solidFill>
              <a:latin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MS Mincho"/>
              </a:rPr>
              <a:t>Procedure</a:t>
            </a: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MS Minch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 Mincho"/>
              </a:rPr>
              <a:t>Isolate the variable by performing the </a:t>
            </a:r>
            <a:r>
              <a:rPr b="1" lang="en-US" sz="2800" spc="-1" strike="noStrike">
                <a:solidFill>
                  <a:srgbClr val="000000"/>
                </a:solidFill>
                <a:latin typeface="MS Mincho"/>
              </a:rPr>
              <a:t>inverse operation</a:t>
            </a:r>
            <a:r>
              <a:rPr b="0" lang="en-US" sz="2800" spc="-1" strike="noStrike">
                <a:solidFill>
                  <a:srgbClr val="000000"/>
                </a:solidFill>
                <a:latin typeface="MS Mincho"/>
              </a:rPr>
              <a:t> on that variable.</a:t>
            </a:r>
            <a:endParaRPr b="0" lang="en-US" sz="2800" spc="-1" strike="noStrike">
              <a:solidFill>
                <a:srgbClr val="000000"/>
              </a:solidFill>
              <a:latin typeface="MS Mincho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MS Minch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 Mincho"/>
              </a:rPr>
              <a:t>The inverse of subtraction is adding.  The inverse of adding is subtracting.</a:t>
            </a:r>
            <a:endParaRPr b="0" lang="en-US" sz="2800" spc="-1" strike="noStrike">
              <a:solidFill>
                <a:srgbClr val="000000"/>
              </a:solidFill>
              <a:latin typeface="MS Mincho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MS Minch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 Mincho"/>
              </a:rPr>
              <a:t>Perform the same operation on the side of the equal sign that does not have a variable.</a:t>
            </a:r>
            <a:endParaRPr b="0" lang="en-US" sz="2800" spc="-1" strike="noStrike">
              <a:solidFill>
                <a:srgbClr val="000000"/>
              </a:solidFill>
              <a:latin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44956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MS Mincho"/>
              </a:rPr>
              <a:t>Example</a:t>
            </a: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219320" y="1219320"/>
            <a:ext cx="4495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 + 13 =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334120" y="152280"/>
            <a:ext cx="35812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ant to get the y by itself.  Perform the inverse operation.  The inverse of adding is subtrac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2514600" y="167652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-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5334120" y="1905120"/>
            <a:ext cx="3581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the same operation on the other side of the equal 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3657600" y="167652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-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>
            <a:off x="1143000" y="24382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1371600" y="2514600"/>
            <a:ext cx="3962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          =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MS Mincho"/>
              </a:rPr>
              <a:t>Check the answer in the original equation.</a:t>
            </a: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1523880" y="2286000"/>
            <a:ext cx="4496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 + 13 =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1447920" y="3048120"/>
            <a:ext cx="4495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 + 13 =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981080" y="3886200"/>
            <a:ext cx="4496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5 =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MS Mincho"/>
              </a:rPr>
              <a:t>Example 2</a:t>
            </a: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752480" y="1295280"/>
            <a:ext cx="3429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 – 12   =  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638680" y="1219320"/>
            <a:ext cx="281952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get k by itself, we perform the inverse operation.  The opposite of “minus 12” is “plus 12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2286000" y="20574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+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4038480" y="1981080"/>
            <a:ext cx="1219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+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2133720" y="28954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2438280" y="289548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 = 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MS Mincho"/>
              </a:rPr>
              <a:t>Check</a:t>
            </a: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438280" y="1676520"/>
            <a:ext cx="3429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 – 12   =  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2362320" y="2743200"/>
            <a:ext cx="3429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6 – 12   =  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3124080" y="3886200"/>
            <a:ext cx="3429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  =  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2:40:20Z</dcterms:created>
  <dc:creator>Josh Hammond</dc:creator>
  <dc:description/>
  <dc:language>en-US</dc:language>
  <cp:lastModifiedBy>Home</cp:lastModifiedBy>
  <dcterms:modified xsi:type="dcterms:W3CDTF">2010-11-14T16:57:34Z</dcterms:modified>
  <cp:revision>12</cp:revision>
  <dc:subject/>
  <dc:title>Solving Addition and Subtraction Equationgs</dc:title>
</cp:coreProperties>
</file>